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CDA-4A9B-4E2D-8E77-DFB90086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2A8-18D2-46EF-B5D2-DCD0A802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BF35-751B-48C0-81EF-D26F60D8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CF6-2C12-489A-9C40-D319A941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848-A3F3-456E-B715-361D73EA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4D61-11F0-44E6-BF12-94CA7B5D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978-0A32-4F48-8198-880AB1DC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4840-D891-4973-B797-D34399B0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30C7-4773-4656-9955-346CD87E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BCCF-381D-411E-B38E-5E451A89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100-A7E8-48C5-B1D9-EB6BEAD4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538-00AA-4101-A27F-139F5890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0D50-4FBC-4F80-BF54-B4E12AD38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Qu’est-ce que vous pensez quand vous entendez les mots « la plage » ou « la mer »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867280" y="26668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ut-être New Jersey 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Wild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e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Bel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ea I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cean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5143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n peut faire les magasi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omment-sont les plages de N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169320" cy="509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362320" y="6172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y a les galets (pebbles)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eestyle Script"/>
              </a:rPr>
              <a:t>L’industrie </a:t>
            </a:r>
            <a:r>
              <a:rPr b="1" lang="fr-FR" sz="6000" spc="-1" strike="noStrike">
                <a:solidFill>
                  <a:srgbClr val="ffffff"/>
                </a:solidFill>
                <a:latin typeface="Freestyle Script"/>
              </a:rPr>
              <a:t>et l’économie de </a:t>
            </a:r>
            <a:r>
              <a:rPr b="1" lang="en-US" sz="6000" spc="-1" strike="noStrike">
                <a:solidFill>
                  <a:srgbClr val="ffffff"/>
                </a:solidFill>
                <a:latin typeface="Freestyle Script"/>
              </a:rPr>
              <a:t>Sè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vital industry is important an important way of life in Sète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1635120"/>
            <a:ext cx="647712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9532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Freestyle Script"/>
              </a:rPr>
              <a:t>Sè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46479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industrie de la pêc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eting of 2 great canals - the Canal du Midi and the Canal du Rhône à Sè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rt and seaside res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plus grande porte de la pêche dans le méditerrané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ang de Thau- oysters and muss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plages de sable (s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10160" cy="3457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91120" y="9144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Il y a beaucoup de choses </a:t>
            </a:r>
            <a:r>
              <a:rPr b="0" lang="fr-FR" sz="9600" spc="-1" strike="noStrike">
                <a:solidFill>
                  <a:srgbClr val="ffffff"/>
                </a:solidFill>
                <a:latin typeface="Arial"/>
              </a:rPr>
              <a:t>à</a:t>
            </a: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 faire </a:t>
            </a:r>
            <a:r>
              <a:rPr b="0" lang="fr-FR" sz="9600" spc="-1" strike="noStrike">
                <a:solidFill>
                  <a:srgbClr val="ffffff"/>
                </a:solidFill>
                <a:latin typeface="Arial"/>
              </a:rPr>
              <a:t>à la plag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ffff"/>
                </a:solidFill>
                <a:latin typeface="Freestyle Script"/>
              </a:rPr>
              <a:t>Qu’est-ce que vous aimez faire à la plage 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19360" y="2209320"/>
            <a:ext cx="4724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ous aimez na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057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Arial Narrow"/>
              </a:rPr>
              <a:t>Vous aimez faire les magasi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97180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erlin Sans FB Demi"/>
              </a:rPr>
              <a:t>Vous aimez lire?</a:t>
            </a: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4843440"/>
            <a:ext cx="4114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Gill Sans Ultra Bold"/>
              </a:rPr>
              <a:t>Vous aimez f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Gill Sans Ultra Bold"/>
              </a:rPr>
              <a:t> </a:t>
            </a:r>
            <a:r>
              <a:rPr b="0" lang="en-US" sz="3600" spc="-1" strike="noStrike">
                <a:solidFill>
                  <a:srgbClr val="9900cc"/>
                </a:solidFill>
                <a:latin typeface="Gill Sans Ultra Bold"/>
              </a:rPr>
              <a:t>du spo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3276720"/>
            <a:ext cx="2743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cc"/>
                </a:solidFill>
                <a:latin typeface="Curlz MT"/>
              </a:rPr>
              <a:t>Vous aimez écouter de la musique ?</a:t>
            </a:r>
            <a:r>
              <a:rPr b="1" lang="fr-FR" sz="3600" spc="-1" strike="noStrike">
                <a:solidFill>
                  <a:srgbClr val="000000"/>
                </a:solidFill>
                <a:latin typeface="Curlz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11480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radley Hand ITC"/>
              </a:rPr>
              <a:t>Vous aimez dorm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615636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ff"/>
                </a:solidFill>
                <a:latin typeface="Castellar"/>
              </a:rPr>
              <a:t>Vous aimez faire de l’équitation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Freestyle Script"/>
              </a:rPr>
              <a:t>Les Plages en France</a:t>
            </a:r>
            <a:r>
              <a:rPr b="1" lang="en-US" sz="6600" spc="-1" strike="noStrike">
                <a:solidFill>
                  <a:srgbClr val="000000"/>
                </a:solidFill>
                <a:latin typeface="Freestyle Script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ésentation par Mlle. Smith 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e Carte d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 la côte França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408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 Normand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Qu’est-ce qui se passé ici pendant l’année 1944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5410080" cy="380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67280" y="3276720"/>
            <a:ext cx="266724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e Jour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n anglais D-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signé le 6 juin, 1944 et le débarquement alliés en Normandie pendant la deuxième guerre mondiale (WWII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00"/>
                </a:solidFill>
                <a:latin typeface="Freestyle Script"/>
              </a:rPr>
              <a:t>La Normandie Aujourd’hu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90720"/>
            <a:ext cx="914400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ns le nord: bordered by the English Chann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ns l’ouest: granite cl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ns l’est: limestone clif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 centre: long stretches of beaches (comme dans cette photo de la plage d’Oma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 “bocage” or hedged farmland, caused problems for the invading tr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ff"/>
                </a:solidFill>
                <a:latin typeface="Freestyle Script"/>
              </a:rPr>
              <a:t>La Côte d'Azur</a:t>
            </a:r>
            <a:br>
              <a:rPr sz="7200"/>
            </a:br>
            <a:r>
              <a:rPr b="1" lang="en-US" sz="7200" spc="-1" strike="noStrike">
                <a:solidFill>
                  <a:srgbClr val="0066ff"/>
                </a:solidFill>
                <a:latin typeface="Freestyle Script"/>
              </a:rPr>
              <a:t> ou “French Riviera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446200"/>
            <a:ext cx="9144000" cy="441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0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eestyle Script"/>
              </a:rPr>
              <a:t>Cannes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38480" y="228600"/>
            <a:ext cx="5105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entury Gothic"/>
              </a:rPr>
              <a:t>Pourquoi-est Cannes très célébré 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295280"/>
            <a:ext cx="4343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e Festival du Fil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ille international depuis le milieu du </a:t>
            </a: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XXIème siècl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(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centu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ense activité touristiq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02264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19720" y="38098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entury Gothic"/>
              </a:rPr>
              <a:t>Qu’est-ce qu’on peut faire à Cannes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48769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On peut aller au cinéma 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Gothic"/>
              </a:rPr>
              <a:t>On peut regarder les films 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Freestyle Script"/>
              </a:rPr>
              <a:t>Canne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Freestyle Script"/>
              </a:rPr>
              <a:t>Nice </a:t>
            </a:r>
            <a:r>
              <a:rPr b="1" lang="fr-FR" sz="7200" spc="-1" strike="noStrike">
                <a:solidFill>
                  <a:srgbClr val="000000"/>
                </a:solidFill>
                <a:latin typeface="Freestyle Script"/>
              </a:rPr>
              <a:t>C’est Très « Nice »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114800"/>
            <a:ext cx="17524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Qu’est-ce qu’on peut faire à Nice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514600"/>
            <a:ext cx="44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r la côte sud-est de la méditerran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 millions de touristes chaque anné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nu comme « Nice La Bell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limat méditerran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été dur pendants 6 mo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00:52:12Z</dcterms:created>
  <dc:creator>asmith</dc:creator>
  <dc:description/>
  <dc:language>en-US</dc:language>
  <cp:lastModifiedBy>asmith</cp:lastModifiedBy>
  <dcterms:modified xsi:type="dcterms:W3CDTF">2010-10-07T16:37:22Z</dcterms:modified>
  <cp:revision>4</cp:revision>
  <dc:subject/>
  <dc:title>Qu’est-ce que vous pensez quand vous entendez les mots « la plage » ou « la mer » ?</dc:title>
</cp:coreProperties>
</file>